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B8B6-3DA1-48C9-B42B-FC74B1E8A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CC94-46F3-41EE-80F3-36D950C8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1EB2-0DA1-4B9C-849F-B72CEF81B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0962-E5F2-4923-A329-C51303A9C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42F6-8360-4C35-B7F5-6F5E3432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3C16-DA52-4F07-942D-CA81EF28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8EB8-BD03-49DC-8AC9-E93C1859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A5A4-5DFE-4764-8F7E-D28218C8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8647-8DD7-4E17-A245-A41DDD7F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AF8A-23CE-4419-B035-58EDE3D7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A79A-3155-4B21-A490-7E87235B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798E-AAB9-4FA8-B5EB-2367606C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6BCB-C4D4-4849-80EE-77035A77C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oughtfully and delicately composed by Jim, Ed, and J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05120" y="685800"/>
            <a:ext cx="533376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PYGMAL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ry Higgins – Note taker, phonetics professor, took in Liza as an experiment, ru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ering – phonetics teacher, Higgins friend, nice to Liz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za -  lowly flower girl, terrible grammar and manners in general. Higgins picked her off the street and tried to make her a la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fred Doolittle – Liza’s father, enjoys being undeserving, wins a contest and becomes a public speaker, upset he has consistent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s. Pearce – Higgins housekeeper, mother figure to Liz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d – Courts Liza, wants to marry her, son of Mrs. Eynsford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s. Higgins - Higgins mom, is upset with his son for taking in Liza, concerned for her well be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 More 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ahoma"/>
              </a:rPr>
              <a:t>Clara: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ahoma"/>
              </a:rPr>
              <a:t>Mrs. Eynsford Hill’s obnoxious daugh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ahoma"/>
              </a:rPr>
              <a:t>Mrs. Eynsford Hill: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ahoma"/>
              </a:rPr>
              <a:t>Clara and Freddy’s mother. A former member of the upper class, who now attempts to keep up appearances although she is in reduced circumstanc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ahoma"/>
              </a:rPr>
              <a:t>Nepommuck: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ahoma"/>
              </a:rPr>
              <a:t>Higgins’ former student, a translator, and self-proclaimed master linguist. At the Embassy party, where Higgins hopes Eliza will pass as a duchess, Nepommuck proclaims that she is a Hungarian of royal bloo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ahoma"/>
              </a:rPr>
              <a:t>Ezra D. Wannafeller: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ahoma"/>
              </a:rPr>
              <a:t>Rich American philanthropist, who transforms Alfred Doolittle from a common dustman to a member of the middleclass by willing him three thousand pounds a year to lecture for the Wannafeller Moral Reform Leagu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dealistic professor transforms an unsophisticated Cockney girl into a refined young lady in this classic drama set in turn-of-the-century Lond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 Pl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or Higgins meets Eliza on the street and decides that with the help of his friend Colonel Pickering they can transform her into a duchess fit to go to the queen’s garden par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73200" y="1981080"/>
            <a:ext cx="3693960" cy="39625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5:41:46Z</dcterms:created>
  <dc:creator>DU</dc:creator>
  <dc:description/>
  <dc:language>en-US</dc:language>
  <cp:lastModifiedBy>DU</cp:lastModifiedBy>
  <dcterms:modified xsi:type="dcterms:W3CDTF">2006-10-10T15:28:37Z</dcterms:modified>
  <cp:revision>5</cp:revision>
  <dc:subject/>
  <dc:title>PYGMALION</dc:title>
</cp:coreProperties>
</file>